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8E0-B643-4FAB-81C0-37128831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539-779A-45F4-93FE-0BCDC9CE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A54A0-F544-4E6E-A6E7-1E79591A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04EBC-9E1A-4E23-AC40-391582FD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00EA6-384B-435F-A4D5-80021195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C9EAD-890E-4412-943F-F906F2B6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EB08C-A430-4EF6-BFD6-5785C882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2712A-6C08-47F7-A9EC-8F90074B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FE7BA-205B-4CAA-8CFC-E908775F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21D26-155F-46C2-8231-F035279A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F82B7-88C6-400A-903C-F1A35304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9BB6C-7656-45A5-91A4-68B0D96D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894-3654-4893-8A6B-B054F893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CD575-E8CF-465A-B32D-B7008574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8E4F3-AD34-45F1-AEC5-31765099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D2B8A-0F79-428E-8373-46355E52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44C7D-C2A1-45EB-9BF5-9ED2348D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308C2-63EB-4A3C-B999-88900632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4F7BA-4446-4A3B-AC7B-15D3B922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146A4-DFDB-4EDB-95A4-E375DA4D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16BEE-8799-463B-8E05-FE6F362A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372A4-6178-4B9B-BA7F-952BCA9B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860F5-FA03-425B-A53A-34D8C421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C3C-92E1-46F2-B94F-586D82A5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E07AD-2A7C-4BB4-9219-E7B59E65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AAAF9-9017-4A5A-B77B-1BD447F3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CAA0D-5AA0-44B5-91CC-EBA78021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8E8BE-4F7F-4A8B-99F4-9B43C22B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02790-AE28-482C-9AF5-DB7421E4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FAF07-4AC2-4BED-B8B3-429F3BCC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870CF-7605-4B78-894E-2035F434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60615-5639-4EEE-8321-1B69A7EC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9D4E3-3013-444E-9D41-4D4783A1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CE04B-7352-4401-B30E-AB3D5B69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A413-CF67-4E30-82AA-2E3FD8AE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48D6E-BB3F-479A-8C71-92316FC2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1F16C-7ADE-4B2E-903E-A8373920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CAE5C-4A80-431C-95AF-B47676FD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33535-10F8-4740-8DC3-43E09FD0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4C410-05CB-40F1-916A-1FCB2707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26FC4-2CD9-4A56-9FCB-978279F7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1D6DC-3B21-4083-A2B8-802A2BA4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86087-ECCD-45CB-A159-076C5DDF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4F4D5-9254-4C92-8AAD-2F9A6B83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414D8-33DB-4FAF-A81C-66B356AC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75D0-FDAE-4CCD-9723-ED9A63D1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1D214-1A41-45F5-B7B2-1A86BB24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A6EE7-367C-4225-A182-1759BEB0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36959-1D80-45EE-B290-380CE193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B19C8-C0D6-4651-9756-D62B8F43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22B56-B8BE-4304-9C69-5FA9201A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D8989-5FF6-4BB7-82B3-779DF9A4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635A7-8442-4A67-A5CE-ACC7C30B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3254B-9A34-4C42-AF15-6441C265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561FC-B714-4C8D-A91C-66EAF272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04DFF-8C19-4273-9739-AA3E04E9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D0D8-968C-4778-8DD7-3922CF04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C4875-25FB-4B9A-A287-169FAA95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796C3-F882-41A1-86B4-59B04E31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E0AA4-ADA7-4166-8796-BD5082FC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A5FAE-EC67-40EF-A241-9F154D17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62920-B096-47A9-A8E4-5CEEC479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0B681-E1DF-4C99-87EC-8C7316EA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D1353-177C-42A2-8989-F1CEDDD4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C22A3-FBD4-417D-9B0E-68079BF7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520B3-272E-4217-B05F-8E6A8BB8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C89CA-82B8-4E50-ABA9-5F182F7A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CB0D-E261-42CE-899A-E133C29D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869B4-3E72-4A48-A917-795C304B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B2F3C1-88C0-4B14-A6C1-2E46CDBE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8A8D2-1A70-4D9A-967F-CCCD01DF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7989D-83FE-4011-8F12-7975B6B2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EA552-2ABE-4B49-B6B1-3C68D835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1191D-622A-43C0-A668-BE9B5542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7CF4C-CFB7-4389-9E34-06394295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67D2A3-4FEF-4D4C-8900-4689488C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1F2BB0-A70D-4F2B-AEC0-4C92708B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BB60C0-4459-4ED1-9B0E-20C4A8E4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1515-F8FD-479B-8AAB-7A472005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A6E413-9A80-4D3F-9894-09C332BF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FE6941-821B-4E95-B328-005442FF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0641B-05AF-48EC-ABDF-ABFE41E7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3016C9-31EC-4905-B126-2B754DCE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71AD35-27FE-443C-98A8-4569414B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98080-67EC-4429-9E87-D6AA22A0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146979-D9DC-4695-8134-A4FD7C1C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00CBC-A51C-4451-9B33-34BD38A0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E9E518-551C-4099-ACA9-90785BFF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4BDE57-09C2-4BFD-BE25-529B5895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BF70-175B-4828-944C-51554C96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15850E-1C8A-400B-897B-33CC824B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8E847-13D3-4ADC-965A-D542C1A1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32DDD1-73EC-4A79-BF91-D37F3E33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A2ABE-B1C2-4869-A103-091B2D85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F7AD2-461B-41BD-9391-80D0C2E9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5BD4A1-7F3D-49B9-8747-E8E1C5BE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A577DE-0235-42E7-A080-A68C0641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9F5822-3E33-4DE1-8FB0-35B6665F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F9EF33-B7E7-4673-8FD2-7F1CE4D4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56EA22-53BE-4510-9DFE-8BD8722B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B9BF-3154-4438-9216-E96D97D8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FE6316-8BC5-432B-9B83-5961F543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13F129-3E67-4D93-85E6-DF518850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DD077-4403-48E1-9C59-EB93CA3E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9ED581-4E93-4329-835D-96B364DD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DA2BFF-EAA2-4BC6-ABD5-55A812D3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D3D7DA-1559-40E2-BF39-C6432BEC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F66C03-F982-4D8D-B88B-A55AB993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5EDC40-1D91-4573-875D-A9CA8230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A55E20-A80E-4762-BD0E-BA57149E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7D18F-8B0E-4660-841D-3BE10822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9E3-009D-45A2-A134-43462FCD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F164-E746-4D50-9C01-67E6470C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072F96-C006-469C-A5A9-22BDE15F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A9D56F-7CD4-4B32-9AEF-F2624FC6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B47ED7-8619-48AB-A625-710631A3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06A0D0-2646-4A64-9141-C495029D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2D007-3B6E-4549-A6CC-01B75B0E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D9E5BF-6F9C-436A-B074-76F1F6E7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88FB99-8BBE-4AF9-A36F-6752E0F2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4B850-69B0-4ADE-9CE8-6B5AFB5C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AE29A3-4972-4BE3-824D-AD592F7A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70EB0-88F9-4F9C-BA96-BE64788A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8AA9-6984-444D-8862-9AA26378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A0441E-196F-4319-B881-4E1A04F7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0CA117-3782-44E0-8BA3-D41DF94C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DC0E16-571F-4764-9FB4-464946F7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9CF506-FE13-438A-9AA4-B86C9448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D3D974-EC54-4177-92EB-92F9B9F4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A75DFB-C0FA-47C5-BFE5-73D2F0FA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6FC81B-0337-4152-ACFD-15D9B260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148D24-02C9-481F-81DF-F6B7E036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D9205C-2136-46BB-8A8E-11EAF415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0729C6-A3C4-460F-B6C5-D6268253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8233-62B6-48E2-B259-C8089EA6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4012E9-77A8-47AD-BA10-488DBF8A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236D5A-B44F-4DB0-A2CC-6CF7F355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9DE254-C3A1-4B16-BC09-9E97C31A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916618-8295-4A12-A17D-3087DAFA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B0221E-D5DF-4988-8840-3E5D01DC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C54C52-A588-4590-AF05-EE115F24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C02BAB-83A1-4DC3-BC33-F2A24A74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8D285D-2ACC-438A-AD9F-3ACD7387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16FBB5-DFFD-4703-8603-023AEA70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F5AD44-BF43-4ABD-9BB2-32991EF2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1175-AE80-4B72-8644-19E7EBC4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DF5BB5-0AC1-443F-B99F-5B9656EC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9609A5-4BC9-4667-8B45-E821050A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D63D84-1452-405F-B3D1-FBCAF817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6A0219-1B73-4689-9206-8CF840C3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61BDD3-4E25-4261-8E53-BF43DB9B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A29853-72C0-41C3-82DB-23971658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52D51C-8744-4A63-A79A-B2FFBCEF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A95C4E-63D4-4B7F-AB85-84ADF006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A51638-B104-4406-A025-B6ED68A1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0054D5-8F3D-4958-A18E-C10FA5B7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78DB-225B-4B7C-BF8F-01D9CFB9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CAF763-F351-45F0-8EA3-F2E24983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B5E22E-63FF-4717-9F02-A325C22E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390ABB-17E0-44A4-95AD-0FD37ED2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363B13-3DD4-4B7E-90E5-E30AB1AC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690EB5-79E2-4DC5-992C-2471E02C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9B6188-E1CA-4C4C-965C-6D727402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5C5079-9529-4072-A2CC-C5B8CE5D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F1D79E-6416-4062-A154-E35117E4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4FF147-EED6-47E4-8D60-BAD5FBEE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89E957-04AD-4A9C-ACFD-2ED6BF2E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F7360-1AF4-48B0-AFD8-4BE0C6DA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8837DF-F87B-4284-AC22-41077034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0BDC62-9CB5-4229-B0E6-5138F1AA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C8C3E0-390A-46C0-924E-569742EC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B1B53-786A-4740-A12B-C4340A80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75FCF-AF0D-4F91-96BF-E4CAA98C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9045B-FC3B-42D8-896C-5B8B6927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22D58-F45A-47E1-A373-A7E985F3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4A2-8949-491A-8AB7-E351BFE8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9D5E3-0334-4929-B59F-6A3EE66C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DFF3-BF5F-4DDE-871B-5CD55B96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86BEA-0BAC-4107-903F-F0E1BA50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90D65-C9F9-443E-A094-2A9D4A64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2CD5-DEB3-45DF-8B6A-C93AAD25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9635D-C964-47DD-81F0-F8FE79E6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CD963-05E8-4C5A-B9DB-B61FD683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BB14B-D525-44F2-B87F-5A7BEC8F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50A82-976C-429D-A3E8-4FA6D958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97999-3F0D-46CC-A2FD-446A67A8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3FF-113D-4DD3-B789-CED2DD15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F6230-A586-42CB-9D55-18E311DA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01868-B18E-467F-A724-82A3B011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41B4B-1EBA-41F9-8DE5-1D85453F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CBAC6-877B-44E6-B994-09739E7C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91D2B-C726-40F1-BF6F-5AC24490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515D4-0E2E-45CA-B9E1-8DB0E435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E6DDB-9ABB-48D1-9757-0804DC39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38052-7746-44F1-9BFE-96A48DCE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30C82-C03F-440E-8B07-099D8AA8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268A4-4C48-4030-B83C-16E361BE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C86-EADB-445F-AE21-6BCCF8DB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6FB3F-3085-40CA-8B92-A31B61D9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60C76-1E1A-445F-9271-6C7F8AB0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C9063-0652-45D3-A4B7-B44CA9B7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913F1-C9CD-4F4D-AAE1-FDD366D5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3256F-55DD-47D0-8A03-A231CE81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CAD28-AE6C-404F-B21B-42F0E935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A9007-D2C0-4E8C-A8D6-46A678A5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4A58C-F441-4E09-8D0A-925BCEB2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F425D-933D-4C53-A8A4-51AF49BB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FA0BF-8D35-4252-B384-2F9FDE56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573-93D2-400D-BA18-26A5CE69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B7F93-B6F5-4738-9E7D-7B82E987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11534-D7F7-4430-BB23-AAB39C6D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9F329-59A0-4C39-8C1C-E560A089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90F7E-49FE-432C-8A6D-5CF2BBCD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13AA7-E807-46E2-978F-C90755F4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A4178-9F0C-4BB5-922A-616445C0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DCFAD-554A-46E8-80F8-A2D20F77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46993-B21E-46A2-95C8-40FE96C7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2F872-0348-469A-A86C-88970E48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DDA43-FA32-468E-84BE-E8A8220E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0C8-6FC0-40E8-9FE5-1C48675D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A47C8-7C24-45CB-A1B9-8398F38B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4FB13-2A21-4DD9-AEAC-BCA38AF7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4716F-E030-4FE9-A9E7-69903D7A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49BED-1535-4B0E-80D3-74ABA0DA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BDACC-4207-47E6-B4D0-ECB3A452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D1037-BB0F-4D68-87C1-46F496ED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712F4-9C82-4E2B-BD74-8573D23C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22CF8-DC32-4343-834A-7671B281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9160B-7B4D-42DE-A3EA-7D482BEF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989CE-0F75-474C-A58A-4B007BBE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DFD3-9E5E-4625-96CF-AEF3759F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5B1DA-CF97-44A0-8784-799FFE67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2980E-889A-4763-9C82-79761E4A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9E59A-68C5-4C0A-8F1C-4F5E740A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96583-DAF5-496B-B829-6EAB93A2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C319B-4743-488E-A066-6DC382E4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88E31-C6A2-4D90-BE45-EE564DAC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E8C12-6542-4FF5-B08F-F0D6358E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14632-852F-4124-BF24-58E81671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CDA22-D53D-4193-A45C-118AE7AC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ABB81-4AFC-4DBB-BF0D-E8D6B465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DFC-C30F-4BF9-9454-ED0B9411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BA617-D688-47E8-8983-B523981B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CC17F-49A8-45E5-9802-7F920084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A5997-31AE-44EC-99BD-72A17D9F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DBDB3-B91E-47CD-9733-DC9D5E26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8306A-9403-4C6A-8E6D-69456991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6A90E-8501-4129-815E-7AD567E0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663B0-CA71-411B-BA66-CB0D41A3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DA2B3-101B-4E88-A046-CE956DE5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54888-031C-4BFC-9046-1B42C0EE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1EAD7-1CA9-4853-B232-63B08E25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ED92-302C-48EC-AC6D-22337A28B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66D2-4A40-4616-AE21-3F5E53E6A5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3537-5671-4172-BE10-84ADD2E83C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0324-463A-4CE4-822A-C799A28F0C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B75A-7EEC-4F3D-9A7F-05C7AFBE33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0C9A-273C-4482-BBD4-30EA219231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998E-97C4-4F82-A3A5-0FADD2E05D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B6AC-7485-4957-85DB-9FA9EA7A56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2206-41EA-485C-B90F-C0A110F90F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44F4-D5CE-4143-8444-431885B2AB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4C82-B525-4BDA-978A-7AD70F36D9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BA93-824A-480A-889E-0303A336E8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923B-50CF-4223-9558-EC1925FC1E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AFAE-5AAA-4A5D-9370-200BC5933C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3253-9D11-4641-B2E9-80900992DE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5A7E-EA50-4DD8-A48A-F71EAA2EFA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5D76-5416-4E39-A3E1-EE272C7127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199B-6C32-4FAF-8D3C-19D0E78DC5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64F0-042D-490F-BBE2-8A39E0DE65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D09D-502A-4005-B9AA-19E0124483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3FA8-1B45-40AE-A7CC-0CD619BF31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EC4A-3D29-486F-86EB-A6DE589004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BC99-C6FE-481B-A7AF-4034A91C3B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1E2F-4BE9-4C1D-B45F-D2353A3C19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BFC7-3E25-4AE3-8ED6-19536D78AC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D8C9-7670-4334-B3D9-4B633DB9F7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76E0-A7F8-461A-9D95-B46946E17C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3E2A-21CE-442C-91AC-91C481FAA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8A57-C1EF-43F0-928B-E51C5108C7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0E57-AAA0-4961-8350-36F2063932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3E66-D90F-4D36-AC10-DA031085AD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8CBF-CCFD-4083-95A9-CF078F06FF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E920-D447-4995-9F59-81839D97A9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50AC-2DD2-46E3-87C0-A06BB1B893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FEA0-1289-4CC4-AB89-7C6DFF6460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E041-62E3-4FC0-92B2-C015977097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BDF9-2F17-48A4-BC9D-1B580719DE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95F2-AD47-41A3-8ED0-18AFC9580A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05A2-C8E4-4F6C-8B41-6937B750BF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2D20-5CDA-44F6-B9DB-B4946E2A89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642960" y="2789280"/>
            <a:ext cx="7929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8001000" cy="60483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692360" y="212724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692360" y="335124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692360" y="457524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1692360" y="5799240"/>
            <a:ext cx="469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Picture 3" descr=""/>
          <p:cNvPicPr/>
          <p:nvPr/>
        </p:nvPicPr>
        <p:blipFill>
          <a:blip r:embed="rId1"/>
          <a:stretch/>
        </p:blipFill>
        <p:spPr>
          <a:xfrm>
            <a:off x="519120" y="1085760"/>
            <a:ext cx="8105760" cy="5486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2"/>
          <a:stretch/>
        </p:blipFill>
        <p:spPr>
          <a:xfrm>
            <a:off x="1692360" y="1125360"/>
            <a:ext cx="469800" cy="4366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3"/>
          <a:stretch/>
        </p:blipFill>
        <p:spPr>
          <a:xfrm>
            <a:off x="1692360" y="299736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4"/>
          <a:stretch/>
        </p:blipFill>
        <p:spPr>
          <a:xfrm>
            <a:off x="1692360" y="4863960"/>
            <a:ext cx="46980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819000" y="1352520"/>
            <a:ext cx="7506000" cy="41529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1365120" y="1341360"/>
            <a:ext cx="470160" cy="4366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3"/>
          <a:stretch/>
        </p:blipFill>
        <p:spPr>
          <a:xfrm>
            <a:off x="1403280" y="321300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4"/>
          <a:stretch/>
        </p:blipFill>
        <p:spPr>
          <a:xfrm>
            <a:off x="1403280" y="443088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528480" y="971640"/>
            <a:ext cx="8087040" cy="54576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3"/>
          <a:stretch/>
        </p:blipFill>
        <p:spPr>
          <a:xfrm>
            <a:off x="1763640" y="479736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824040" y="1257480"/>
            <a:ext cx="7495920" cy="47433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476280" y="1057320"/>
            <a:ext cx="8191440" cy="5514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3"/>
          <a:stretch/>
        </p:blipFill>
        <p:spPr>
          <a:xfrm>
            <a:off x="1979640" y="6051600"/>
            <a:ext cx="144000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4"/>
          <a:stretch/>
        </p:blipFill>
        <p:spPr>
          <a:xfrm>
            <a:off x="3851280" y="6062760"/>
            <a:ext cx="1441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914400" y="1614600"/>
            <a:ext cx="7315200" cy="36288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2"/>
          <a:stretch/>
        </p:blipFill>
        <p:spPr>
          <a:xfrm>
            <a:off x="1692360" y="2225520"/>
            <a:ext cx="934920" cy="4384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3"/>
          <a:stretch/>
        </p:blipFill>
        <p:spPr>
          <a:xfrm>
            <a:off x="2987640" y="2225520"/>
            <a:ext cx="936720" cy="4384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4"/>
          <a:stretch/>
        </p:blipFill>
        <p:spPr>
          <a:xfrm>
            <a:off x="4284720" y="2225520"/>
            <a:ext cx="1366920" cy="4384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5"/>
          <a:stretch/>
        </p:blipFill>
        <p:spPr>
          <a:xfrm>
            <a:off x="1908000" y="3429000"/>
            <a:ext cx="935280" cy="438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6"/>
          <a:stretch/>
        </p:blipFill>
        <p:spPr>
          <a:xfrm>
            <a:off x="3492360" y="3429000"/>
            <a:ext cx="935280" cy="438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7"/>
          <a:stretch/>
        </p:blipFill>
        <p:spPr>
          <a:xfrm>
            <a:off x="4716360" y="3429000"/>
            <a:ext cx="1368360" cy="438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8"/>
          <a:stretch/>
        </p:blipFill>
        <p:spPr>
          <a:xfrm>
            <a:off x="1979640" y="4684680"/>
            <a:ext cx="360036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Picture 2" descr=""/>
          <p:cNvPicPr/>
          <p:nvPr/>
        </p:nvPicPr>
        <p:blipFill>
          <a:blip r:embed="rId1"/>
          <a:stretch/>
        </p:blipFill>
        <p:spPr>
          <a:xfrm>
            <a:off x="685800" y="714240"/>
            <a:ext cx="7996320" cy="61437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" descr=""/>
          <p:cNvPicPr/>
          <p:nvPr/>
        </p:nvPicPr>
        <p:blipFill>
          <a:blip r:embed="rId2"/>
          <a:stretch/>
        </p:blipFill>
        <p:spPr>
          <a:xfrm>
            <a:off x="3419640" y="600084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3"/>
          <a:stretch/>
        </p:blipFill>
        <p:spPr>
          <a:xfrm>
            <a:off x="4211640" y="599436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3" descr=""/>
          <p:cNvPicPr/>
          <p:nvPr/>
        </p:nvPicPr>
        <p:blipFill>
          <a:blip r:embed="rId4"/>
          <a:stretch/>
        </p:blipFill>
        <p:spPr>
          <a:xfrm>
            <a:off x="5037120" y="5950080"/>
            <a:ext cx="471600" cy="4363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5"/>
          <a:stretch/>
        </p:blipFill>
        <p:spPr>
          <a:xfrm>
            <a:off x="5900760" y="5950080"/>
            <a:ext cx="471600" cy="4363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3" descr=""/>
          <p:cNvPicPr/>
          <p:nvPr/>
        </p:nvPicPr>
        <p:blipFill>
          <a:blip r:embed="rId6"/>
          <a:stretch/>
        </p:blipFill>
        <p:spPr>
          <a:xfrm>
            <a:off x="6732720" y="595944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3" descr=""/>
          <p:cNvPicPr/>
          <p:nvPr/>
        </p:nvPicPr>
        <p:blipFill>
          <a:blip r:embed="rId7"/>
          <a:stretch/>
        </p:blipFill>
        <p:spPr>
          <a:xfrm>
            <a:off x="7547040" y="595944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3:35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